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6149-C0E5-410C-8EF6-C2DDB6BA7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93BD-75B4-47F6-B8EE-FA0BAE562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83D5-B8F4-439D-B5C2-C1008538E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C6E0-6D01-4A4F-AE78-BF8A30433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C7CE-4439-48B6-AD7F-BF716CFA1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1AA1-CA2E-443D-A95E-722C8A88B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4EEF-E5E3-4296-9CFE-EC5C0A9A2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CD2F-BEA9-406B-918F-A0C14C159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707C-6319-4C2F-8168-808F53E77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E4F5-28E7-4D4F-BD59-741C46FCE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620D-6655-49F3-9C79-336E7D5AC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BEEF-7CBA-4969-85F2-73181247D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5A0D-C526-4DF7-81CB-902F4FCBC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9987-3293-4876-931F-A323E040D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4280-9FA2-4156-8CD9-3E0EB3C7C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3FC2-14F8-467F-AD40-30FEE4C9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24FA-546C-43E8-8971-E4E13B07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3826-7313-4035-9244-53C64FEC0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241D-21E0-4BEE-B2AE-1E421D94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5BA8-3202-41FB-AE61-A0EEEFFC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84BC-22A2-4B74-8757-BAA0A03E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4397-7BDB-4D31-9556-B7A979D2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0358-61FA-4093-8DB5-A6B0D04F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2BA8-9D5B-4258-8CEC-A042342A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DA0C-2F68-4578-80F8-E1173895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756C-9AD5-4630-BBC7-D96BCF84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B152-4EFF-4860-B02B-9D7170ED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f9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1C56-8133-4CD2-BADC-D4C6F4991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635280" y="1197000"/>
            <a:ext cx="482436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6372360" y="1341360"/>
            <a:ext cx="2087280" cy="0"/>
          </a:xfrm>
          <a:prstGeom prst="line">
            <a:avLst/>
          </a:prstGeom>
          <a:ln w="316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design.com/mnem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ing your own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3132000" y="3933720"/>
            <a:ext cx="2808360" cy="1600200"/>
            <a:chOff x="3132000" y="3933720"/>
            <a:chExt cx="2808360" cy="1600200"/>
          </a:xfrm>
        </p:grpSpPr>
        <p:pic>
          <p:nvPicPr>
            <p:cNvPr id="53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393372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6"/>
            <p:cNvSpPr/>
            <p:nvPr/>
          </p:nvSpPr>
          <p:spPr>
            <a:xfrm>
              <a:off x="3924000" y="458136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7"/>
            <p:cNvSpPr/>
            <p:nvPr/>
          </p:nvSpPr>
          <p:spPr>
            <a:xfrm rot="16200000">
              <a:off x="5149080" y="465372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200" spc="-1" strike="noStrike">
                <a:solidFill>
                  <a:srgbClr val="3333cc"/>
                </a:solidFill>
                <a:latin typeface="Arial"/>
              </a:rPr>
              <a:t>kinaesthetic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frequent study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 around to learn new th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read while on an exercise 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y model a difficult/new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Highlight reading with bright col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posters an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kim read before reading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touch"/>
          <p:cNvPicPr/>
          <p:nvPr/>
        </p:nvPicPr>
        <p:blipFill>
          <a:blip r:embed="rId1"/>
          <a:stretch/>
        </p:blipFill>
        <p:spPr>
          <a:xfrm>
            <a:off x="7164360" y="4508640"/>
            <a:ext cx="1620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95281"/>
          <p:cNvPicPr/>
          <p:nvPr/>
        </p:nvPicPr>
        <p:blipFill>
          <a:blip r:embed="rId1"/>
          <a:stretch/>
        </p:blipFill>
        <p:spPr>
          <a:xfrm>
            <a:off x="6732720" y="2060640"/>
            <a:ext cx="1815840" cy="180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295294"/>
          <p:cNvPicPr/>
          <p:nvPr/>
        </p:nvPicPr>
        <p:blipFill>
          <a:blip r:embed="rId2"/>
          <a:stretch/>
        </p:blipFill>
        <p:spPr>
          <a:xfrm>
            <a:off x="7020000" y="407664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their own learning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re to get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us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moan if they have to d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moti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n to 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j0295281"/>
          <p:cNvPicPr/>
          <p:nvPr/>
        </p:nvPicPr>
        <p:blipFill>
          <a:blip r:embed="rId1"/>
          <a:stretch/>
        </p:blipFill>
        <p:spPr>
          <a:xfrm>
            <a:off x="6948360" y="2060640"/>
            <a:ext cx="1816200" cy="180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j0295294"/>
          <p:cNvPicPr/>
          <p:nvPr/>
        </p:nvPicPr>
        <p:blipFill>
          <a:blip r:embed="rId2"/>
          <a:stretch/>
        </p:blipFill>
        <p:spPr>
          <a:xfrm>
            <a:off x="7236000" y="414972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 you an independent lear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s up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 to learn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learning resources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 management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788000" y="1052640"/>
            <a:ext cx="4176720" cy="252072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508720" y="206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handout 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lieve in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http://www.des.emory.edu/mfp/se-ghandi.jpg"/>
          <p:cNvPicPr/>
          <p:nvPr/>
        </p:nvPicPr>
        <p:blipFill>
          <a:blip r:embed="rId1"/>
          <a:stretch/>
        </p:blipFill>
        <p:spPr>
          <a:xfrm>
            <a:off x="179280" y="1916280"/>
            <a:ext cx="2089080" cy="23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2411280" y="1773360"/>
          <a:ext cx="6121440" cy="265104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26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"If I have the belief that I can do it, I shall surely acquire the capacity to do it even if I may not have it at the beginning."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~ Mahatma Gandhi 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8aa"/>
                    </a:solidFill>
                  </a:tcPr>
                </a:tc>
              </a:tr>
            </a:tbl>
          </a:graphicData>
        </a:graphic>
      </p:graphicFrame>
      <p:sp>
        <p:nvSpPr>
          <p:cNvPr id="120" name="Text Box 11"/>
          <p:cNvSpPr/>
          <p:nvPr/>
        </p:nvSpPr>
        <p:spPr>
          <a:xfrm>
            <a:off x="1187280" y="566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ver say “ I can’t do that”  always say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I can’t do th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 of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why these are important for you to manage your own learning and become a proficient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know yourself as a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you an independent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believe in yourse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learning is an important sk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ing is a life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alf life of knowledge is sh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5% of drugs in use in 1978 were unheard of in 1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chanical engineers’ knowledge 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developers 2 –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ong learning is not a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rs want motivated graduates who continue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yourself as a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motiv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responsible for your own le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 on your prog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 you know your learning styl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eye1"/>
          <p:cNvPicPr/>
          <p:nvPr/>
        </p:nvPicPr>
        <p:blipFill>
          <a:blip r:embed="rId1"/>
          <a:stretch/>
        </p:blipFill>
        <p:spPr>
          <a:xfrm>
            <a:off x="900000" y="3213000"/>
            <a:ext cx="2159280" cy="164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ear1"/>
          <p:cNvPicPr/>
          <p:nvPr/>
        </p:nvPicPr>
        <p:blipFill>
          <a:blip r:embed="rId2"/>
          <a:stretch/>
        </p:blipFill>
        <p:spPr>
          <a:xfrm>
            <a:off x="3708360" y="2781360"/>
            <a:ext cx="183528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ouch"/>
          <p:cNvPicPr/>
          <p:nvPr/>
        </p:nvPicPr>
        <p:blipFill>
          <a:blip r:embed="rId3"/>
          <a:stretch/>
        </p:blipFill>
        <p:spPr>
          <a:xfrm>
            <a:off x="6156360" y="2781360"/>
            <a:ext cx="1954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ow of h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0"/>
          <p:cNvGrpSpPr/>
          <p:nvPr/>
        </p:nvGrpSpPr>
        <p:grpSpPr>
          <a:xfrm>
            <a:off x="1116000" y="2997360"/>
            <a:ext cx="6480360" cy="360360"/>
            <a:chOff x="1116000" y="2997360"/>
            <a:chExt cx="6480360" cy="360360"/>
          </a:xfrm>
        </p:grpSpPr>
        <p:sp>
          <p:nvSpPr>
            <p:cNvPr id="68" name="Line 5"/>
            <p:cNvSpPr/>
            <p:nvPr/>
          </p:nvSpPr>
          <p:spPr>
            <a:xfrm>
              <a:off x="1116000" y="321300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7"/>
            <p:cNvSpPr/>
            <p:nvPr/>
          </p:nvSpPr>
          <p:spPr>
            <a:xfrm>
              <a:off x="111600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759636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>
              <a:off x="270036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2"/>
            <p:cNvSpPr/>
            <p:nvPr/>
          </p:nvSpPr>
          <p:spPr>
            <a:xfrm>
              <a:off x="457200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3"/>
            <p:cNvSpPr/>
            <p:nvPr/>
          </p:nvSpPr>
          <p:spPr>
            <a:xfrm>
              <a:off x="622764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1116000" y="5373720"/>
            <a:ext cx="6480360" cy="360360"/>
            <a:chOff x="1116000" y="5373720"/>
            <a:chExt cx="6480360" cy="360360"/>
          </a:xfrm>
        </p:grpSpPr>
        <p:sp>
          <p:nvSpPr>
            <p:cNvPr id="75" name="Line 6"/>
            <p:cNvSpPr/>
            <p:nvPr/>
          </p:nvSpPr>
          <p:spPr>
            <a:xfrm>
              <a:off x="1116000" y="558972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111600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>
              <a:off x="759636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270036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0072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622764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7"/>
          <p:cNvSpPr/>
          <p:nvPr/>
        </p:nvSpPr>
        <p:spPr>
          <a:xfrm>
            <a:off x="395280" y="2133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7020000" y="220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539640" y="4791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7162920" y="47912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now your 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468360" y="1989000"/>
            <a:ext cx="7704000" cy="1191240"/>
            <a:chOff x="468360" y="1989000"/>
            <a:chExt cx="7704000" cy="1191240"/>
          </a:xfrm>
        </p:grpSpPr>
        <p:sp>
          <p:nvSpPr>
            <p:cNvPr id="87" name="Text Box 5"/>
            <p:cNvSpPr/>
            <p:nvPr/>
          </p:nvSpPr>
          <p:spPr>
            <a:xfrm>
              <a:off x="1692360" y="22766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su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6" descr="eye1"/>
            <p:cNvPicPr/>
            <p:nvPr/>
          </p:nvPicPr>
          <p:blipFill>
            <a:blip r:embed="rId1"/>
            <a:stretch/>
          </p:blipFill>
          <p:spPr>
            <a:xfrm>
              <a:off x="468360" y="2133720"/>
              <a:ext cx="119052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>
              <a:off x="3203640" y="1989000"/>
              <a:ext cx="496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seeing and observing things. You like demonstrations, displays, handouts &amp; most visual materials. You use pictures and diagram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8"/>
          <p:cNvGrpSpPr/>
          <p:nvPr/>
        </p:nvGrpSpPr>
        <p:grpSpPr>
          <a:xfrm>
            <a:off x="684360" y="3213000"/>
            <a:ext cx="7488000" cy="1305000"/>
            <a:chOff x="684360" y="3213000"/>
            <a:chExt cx="7488000" cy="1305000"/>
          </a:xfrm>
        </p:grpSpPr>
        <p:sp>
          <p:nvSpPr>
            <p:cNvPr id="91" name="Text Box 9"/>
            <p:cNvSpPr/>
            <p:nvPr/>
          </p:nvSpPr>
          <p:spPr>
            <a:xfrm>
              <a:off x="1763640" y="35733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di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10" descr="ear1"/>
            <p:cNvPicPr/>
            <p:nvPr/>
          </p:nvPicPr>
          <p:blipFill>
            <a:blip r:embed="rId2"/>
            <a:stretch/>
          </p:blipFill>
          <p:spPr>
            <a:xfrm>
              <a:off x="684360" y="3213000"/>
              <a:ext cx="9237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1"/>
            <p:cNvSpPr/>
            <p:nvPr/>
          </p:nvSpPr>
          <p:spPr>
            <a:xfrm>
              <a:off x="3203640" y="357336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listening.  You may talk to yourself when revising, put things on a tape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684360" y="4797360"/>
            <a:ext cx="7619400" cy="1564560"/>
            <a:chOff x="684360" y="4797360"/>
            <a:chExt cx="7619400" cy="1564560"/>
          </a:xfrm>
        </p:grpSpPr>
        <p:sp>
          <p:nvSpPr>
            <p:cNvPr id="95" name="Text Box 17"/>
            <p:cNvSpPr/>
            <p:nvPr/>
          </p:nvSpPr>
          <p:spPr>
            <a:xfrm>
              <a:off x="1750680" y="501336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naesthe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18" descr="touch"/>
            <p:cNvPicPr/>
            <p:nvPr/>
          </p:nvPicPr>
          <p:blipFill>
            <a:blip r:embed="rId3"/>
            <a:stretch/>
          </p:blipFill>
          <p:spPr>
            <a:xfrm>
              <a:off x="684360" y="4797360"/>
              <a:ext cx="9234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9"/>
            <p:cNvSpPr/>
            <p:nvPr/>
          </p:nvSpPr>
          <p:spPr>
            <a:xfrm>
              <a:off x="3335040" y="544500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physical experience, touching, feeling, holding, doing practicals – hands on experien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visual learn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e frequently in discussions/deb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peeches and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speech recognition software for your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gon Naturally Speaking or Via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a dicta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musical jingles and mnemonics to aid mem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udesign.com/mnem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in a quiet area as you ar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acted by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ear1"/>
          <p:cNvPicPr/>
          <p:nvPr/>
        </p:nvPicPr>
        <p:blipFill>
          <a:blip r:embed="rId2"/>
          <a:stretch/>
        </p:blipFill>
        <p:spPr>
          <a:xfrm>
            <a:off x="7236000" y="4797360"/>
            <a:ext cx="1441440" cy="1727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600" spc="-1" strike="noStrike">
                <a:solidFill>
                  <a:srgbClr val="3333cc"/>
                </a:solidFill>
                <a:latin typeface="Arial"/>
              </a:rPr>
              <a:t>auditor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5:35Z</dcterms:modified>
  <cp:revision>23</cp:revision>
  <dc:subject/>
  <dc:title>Getting started in HE</dc:title>
</cp:coreProperties>
</file>