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66EDB-2400-40ED-BF59-8909A0CCD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4AF46-64A1-4177-8107-82F4A0575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ation number enclosed in square brackets, offset from the rest of the citation: [1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or(s): H. Inose, P. Fingle, and J.R. Pierc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tle (in italics)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formation Technology and Civilization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ion - if not the first: 2nd ed.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 of publication: New York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sher: Freema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ar of publication: 1984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(s): pp. 105-12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hors: Laudon, KC &amp; Laudon, J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: 2003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le - in italics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ssentials of management information systems: managing the digital firm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sher: Prentice Hal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: Upper Saddle River, N.J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650C-9BF6-499A-A17E-0C840F71A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042E-729D-48E6-956C-119900EF1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ADFF-6745-4A90-9F0C-609AF8F32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6AD3-5DCD-40BF-9C87-85469772F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EED6-EAFC-47A2-B87E-083E453B2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7218-EEFF-41FE-B8DC-4FCFD4D42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0146-75C4-4C27-B5B9-5EA42883F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0937-2179-46EE-904D-445BEAEC0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2256-DAA0-4392-BA3A-624FE8C4B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55DC-623A-415D-9111-6D1C0F27F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FBEB-F7FC-43E4-8A89-898980CF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AE12-7A7A-4A3D-98FB-49E1BBE8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7ECB4-32D0-4F9A-89B6-FCAF7A4841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lib.murdoch.edu.au/find/citation/ieee.html" TargetMode="External"/><Relationship Id="rId2" Type="http://schemas.openxmlformats.org/officeDocument/2006/relationships/hyperlink" Target="http://libweb.anglia.ac.uk/referencing/harvard.htm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eattlecentral.org/library/101/textbook/glossary.html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started in 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55640" y="3141360"/>
            <a:ext cx="7632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anding Learner Ethics and Avoiding Plagiar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3132000" y="4437000"/>
            <a:ext cx="2808360" cy="1600200"/>
            <a:chOff x="3132000" y="4437000"/>
            <a:chExt cx="2808360" cy="1600200"/>
          </a:xfrm>
        </p:grpSpPr>
        <p:pic>
          <p:nvPicPr>
            <p:cNvPr id="51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3132000" y="443700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6"/>
            <p:cNvSpPr/>
            <p:nvPr/>
          </p:nvSpPr>
          <p:spPr>
            <a:xfrm>
              <a:off x="3924000" y="508464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 rot="16200000">
              <a:off x="5149080" y="515700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EEE book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Author(s)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P. Maier, A. Barney, G. P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Title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tudy Skills for 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Plac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Har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Publish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Pearson Education Lt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Dat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3851280" y="5516640"/>
            <a:ext cx="482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Number your reference list  1, 2 , 3  et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3300"/>
                </a:solidFill>
                <a:latin typeface="Arial"/>
              </a:rPr>
              <a:t>Title of book is in ital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EEE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n text  ci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The same data was recorded by [1] although later work showed significant differences [2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reference list: (journal articl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[1]  H. Inose, P. Fingle, and J.R. Pierce, </a:t>
            </a:r>
            <a:r>
              <a:rPr b="0" i="1" lang="en-US" sz="3200" spc="-1" strike="noStrike">
                <a:solidFill>
                  <a:srgbClr val="0066ff"/>
                </a:solidFill>
                <a:latin typeface="Arial"/>
              </a:rPr>
              <a:t>Information Technology and Civilization,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 2nd ed., New York:   Freeman, 1984, pp. 105-12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arvard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ss, G 2003,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S Project Management Handbook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spen Publishers, New Y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Auth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   Doss, 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D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      2003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Title:     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S Project Management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            Handbook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Publis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New York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Pla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   Aspen Publis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arvard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 text c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Customer compatibility management emphasizes the controllability of customer to customer interaction in the higher education environment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(Rowley, 1996)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 reference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wley J.E. 1996,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ducational Manag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Longman, Lond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arvard referencing cont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et 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s  ‘and all other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ext citation with multiple auth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(Laudon </a:t>
            </a:r>
            <a:r>
              <a:rPr b="0" i="1" lang="en-US" sz="1800" spc="-1" strike="noStrike">
                <a:solidFill>
                  <a:srgbClr val="0066ff"/>
                </a:solidFill>
                <a:latin typeface="Arial"/>
              </a:rPr>
              <a:t>et al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 20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Ib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s – same as information above in a reference li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rect qu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"These resting times provide periods for reflection and permit time for new things to be learned, mastered and brought to fruition" (Jones, 1995, pp.122-3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more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IE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lib.murdoch.edu.au/find/citation/ieee.htm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Harv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libweb.anglia.ac.uk/referencing/harvard.htm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ne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lect a referenc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how to 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ext c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erence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rect quo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en should you use in-text cita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860480"/>
            <a:ext cx="8229600" cy="40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you have quoted directly from someone else’s 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ff"/>
                </a:solidFill>
                <a:latin typeface="Arial"/>
              </a:rPr>
              <a:t>When you have paraphrased the work of another author, rather than quoted directly from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you have referred to previously published work of your ow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ff"/>
                </a:solidFill>
                <a:latin typeface="Arial"/>
              </a:rPr>
              <a:t>If someone’s work or ideas are the source of a particular theory, argument or viewpo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you have used specific information, e.g. statistics or case stud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ep notes of your 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 notes with FULL referen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Put in quotes any pieces of text you want to use directly + the page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xtbook author may refer to another person – note the name of the other person and say:  ‘ Jones cited in Fox (2001)’ with full reference of text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Use </a:t>
            </a: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Endnote</a:t>
            </a: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 bibliographic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On all public works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878544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learner 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dentify plagiar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how plagiarism can be avoi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in-text citation (references) to avoid plagiar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or your portfol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Comment on your own understanding of plagiarism and how you aim to avoid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cide to use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either Harvard or IEE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referenc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nd in any work where you have had to reference other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ke notes from section in a book with a full referenc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ow examples of using a referenc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ok  - single and multiple auth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ee ITEMS FOR THE PORTFOLIO on B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er eth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684360" y="14130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DON’T …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exams/course wor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bricate 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invent info for an essay/ invent lab dat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agiar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take other people’s work as your ow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ny others access to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making library material unavailab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tearing pages out of book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7"/>
          <p:cNvSpPr/>
          <p:nvPr/>
        </p:nvSpPr>
        <p:spPr>
          <a:xfrm>
            <a:off x="5219640" y="620640"/>
            <a:ext cx="3816360" cy="3095640"/>
          </a:xfrm>
          <a:prstGeom prst="irregularSeal1">
            <a:avLst/>
          </a:prstGeom>
          <a:solidFill>
            <a:srgbClr val="ffff00">
              <a:alpha val="45000"/>
            </a:srgbClr>
          </a:soli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6515280" y="1844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cc"/>
                </a:solidFill>
                <a:latin typeface="Arial"/>
              </a:rPr>
              <a:t>Activit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539640" y="6381720"/>
            <a:ext cx="720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dapted from: http://teachx.rutgers.edu/integrity/student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plagiaris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fini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another author's ideas or words without proper documentation; representing someone else's creative work (ideas, words, images, etc.) as one's own,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</a:rPr>
              <a:t>whether intentional or no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 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seattlecentral.org/library/101/textbook/glossary.htm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7093080" y="5877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Activit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avoid plagiarising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ep full reference from any text you take notes f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n’t leave things to the last-min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nd map the structure of your es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e key authors on certain branches of your mind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y term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C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text reference to an auth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.g. As Price (2006) indicates…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Reference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ll references of your cit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ice, G.A.(2006) Creative solutions to making technology work,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ALT-J Research in Learning Technology,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14(1), 21-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y terminology cont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Bibli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list of all the sources you have used to formulate your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y may not be cited in your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avoid plagiarising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it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in-text cit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s used when you are discussing the work of another person in your written wor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include authors’ words directly into your text, this is a quotation, and must also be accompanied by an in-text ci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mall quotations use “   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ng quotations are indented from the main tex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particular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stitute of Electrical and Electronic Engine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E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d by engin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rv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d by scientists and engin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8:30Z</dcterms:modified>
  <cp:revision>77</cp:revision>
  <dc:subject/>
  <dc:title>Getting started in HE</dc:title>
</cp:coreProperties>
</file>