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473B-A899-4DBE-993E-6A5DC42E3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D2FE-BFB7-4986-90A3-26DBEC766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9D64-91DE-4005-953F-F50563CF7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E4F3-11CF-4D9D-A717-3E7F5DEE5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8913-0615-4339-860F-057118613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2FC4-3897-4CE7-946C-E4B7F8406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1625-A28D-4C27-A944-862A882EB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2FCD-14C8-480B-AB38-90EE186B7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1A5A-22E2-47BF-9B13-9CA367165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9280-91AA-447B-A8E2-415BDEAEE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CE34-34A8-45B1-8321-2B716FD70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6B24-611E-4E53-8B88-08F1C0713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7E02-841A-4AB2-81ED-068BE5B85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92BC-ED3A-434F-8505-11939DC1A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63BB-4782-40AC-ADE6-5148B4236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9FEE-3B7E-4280-999B-B053CBCF1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464B-2B51-47A8-9B1C-FC3B65CB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E771-D2BA-4C00-A32E-4820BB919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E47E-5578-4776-9C28-AA602E641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015E-6CDD-4ACC-AFE1-7410EA21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E7FA-6C6C-4621-B244-32CDA6B8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A827-8BDE-47F9-A120-4BCCCBDD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E89C-4A7E-455C-B9A5-7FD94CE1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F018-5413-494E-A7A4-654D895D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8701-2DBB-41DA-B317-969C261F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C19A-0D1F-40B8-956A-E5B31398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83C9-46A1-4869-B56F-E51C2127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f9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179D-6E00-42B4-8CA1-C4CFA26F0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635280" y="1197000"/>
            <a:ext cx="482436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6372360" y="1341360"/>
            <a:ext cx="2087280" cy="0"/>
          </a:xfrm>
          <a:prstGeom prst="line">
            <a:avLst/>
          </a:prstGeom>
          <a:ln w="316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design.com/mnems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naging your own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3132000" y="3933720"/>
            <a:ext cx="2808360" cy="1600200"/>
            <a:chOff x="3132000" y="3933720"/>
            <a:chExt cx="2808360" cy="1600200"/>
          </a:xfrm>
        </p:grpSpPr>
        <p:pic>
          <p:nvPicPr>
            <p:cNvPr id="53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393372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6"/>
            <p:cNvSpPr/>
            <p:nvPr/>
          </p:nvSpPr>
          <p:spPr>
            <a:xfrm>
              <a:off x="3924000" y="458136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7"/>
            <p:cNvSpPr/>
            <p:nvPr/>
          </p:nvSpPr>
          <p:spPr>
            <a:xfrm rot="16200000">
              <a:off x="5149080" y="465372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200" spc="-1" strike="noStrike">
                <a:solidFill>
                  <a:srgbClr val="3333cc"/>
                </a:solidFill>
                <a:latin typeface="Arial"/>
              </a:rPr>
              <a:t>kinaesthetic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frequent study 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e around to learn new th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 read while on an exercise b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y model a difficult/new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Highlight reading with bright col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posters an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kim read before reading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touch"/>
          <p:cNvPicPr/>
          <p:nvPr/>
        </p:nvPicPr>
        <p:blipFill>
          <a:blip r:embed="rId1"/>
          <a:stretch/>
        </p:blipFill>
        <p:spPr>
          <a:xfrm>
            <a:off x="7164360" y="4508640"/>
            <a:ext cx="1620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0295281"/>
          <p:cNvPicPr/>
          <p:nvPr/>
        </p:nvPicPr>
        <p:blipFill>
          <a:blip r:embed="rId1"/>
          <a:stretch/>
        </p:blipFill>
        <p:spPr>
          <a:xfrm>
            <a:off x="6732720" y="2060640"/>
            <a:ext cx="1815840" cy="180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0295294"/>
          <p:cNvPicPr/>
          <p:nvPr/>
        </p:nvPicPr>
        <p:blipFill>
          <a:blip r:embed="rId2"/>
          <a:stretch/>
        </p:blipFill>
        <p:spPr>
          <a:xfrm>
            <a:off x="7020000" y="407664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their own learning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re to get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us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moan if they have to do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motiv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n to 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j0295281"/>
          <p:cNvPicPr/>
          <p:nvPr/>
        </p:nvPicPr>
        <p:blipFill>
          <a:blip r:embed="rId1"/>
          <a:stretch/>
        </p:blipFill>
        <p:spPr>
          <a:xfrm>
            <a:off x="6948360" y="2060640"/>
            <a:ext cx="1816200" cy="180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j0295294"/>
          <p:cNvPicPr/>
          <p:nvPr/>
        </p:nvPicPr>
        <p:blipFill>
          <a:blip r:embed="rId2"/>
          <a:stretch/>
        </p:blipFill>
        <p:spPr>
          <a:xfrm>
            <a:off x="7236000" y="414972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 you an independent lear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s up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 to learn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learning resources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 management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788000" y="1052640"/>
            <a:ext cx="4176720" cy="252072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508720" y="206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handout 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lieve in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http://www.des.emory.edu/mfp/se-ghandi.jpg"/>
          <p:cNvPicPr/>
          <p:nvPr/>
        </p:nvPicPr>
        <p:blipFill>
          <a:blip r:embed="rId1"/>
          <a:stretch/>
        </p:blipFill>
        <p:spPr>
          <a:xfrm>
            <a:off x="179280" y="1916280"/>
            <a:ext cx="2089080" cy="230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2411280" y="1773360"/>
          <a:ext cx="6121440" cy="265104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26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"If I have the belief that I can do it, I shall surely acquire the capacity to do it even if I may not have it at the beginning."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~ Mahatma Gandhi 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8aa"/>
                    </a:solidFill>
                  </a:tcPr>
                </a:tc>
              </a:tr>
            </a:tbl>
          </a:graphicData>
        </a:graphic>
      </p:graphicFrame>
      <p:sp>
        <p:nvSpPr>
          <p:cNvPr id="120" name="Text Box 11"/>
          <p:cNvSpPr/>
          <p:nvPr/>
        </p:nvSpPr>
        <p:spPr>
          <a:xfrm>
            <a:off x="1187280" y="566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ver say “ I can’t do that”  always say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“I can’t do tha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 of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why these are important for you to manage your own learning and become a proficient lear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know yourself as a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you an independent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believe in yourself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learning is an important sk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ing is a life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alf life of knowledge is sh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5% of drugs in use in 1978 were unheard of in 19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chanical engineers’ knowledge 7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developers 2 – 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ong learning is not an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rs want motivated graduates who continue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yourself as a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motiv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responsible for your own lea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 on your prog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 you know your learning styl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eye1"/>
          <p:cNvPicPr/>
          <p:nvPr/>
        </p:nvPicPr>
        <p:blipFill>
          <a:blip r:embed="rId1"/>
          <a:stretch/>
        </p:blipFill>
        <p:spPr>
          <a:xfrm>
            <a:off x="900000" y="3213000"/>
            <a:ext cx="2159280" cy="164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ear1"/>
          <p:cNvPicPr/>
          <p:nvPr/>
        </p:nvPicPr>
        <p:blipFill>
          <a:blip r:embed="rId2"/>
          <a:stretch/>
        </p:blipFill>
        <p:spPr>
          <a:xfrm>
            <a:off x="3708360" y="2781360"/>
            <a:ext cx="183528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ouch"/>
          <p:cNvPicPr/>
          <p:nvPr/>
        </p:nvPicPr>
        <p:blipFill>
          <a:blip r:embed="rId3"/>
          <a:stretch/>
        </p:blipFill>
        <p:spPr>
          <a:xfrm>
            <a:off x="6156360" y="2781360"/>
            <a:ext cx="1954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ow of h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0"/>
          <p:cNvGrpSpPr/>
          <p:nvPr/>
        </p:nvGrpSpPr>
        <p:grpSpPr>
          <a:xfrm>
            <a:off x="1116000" y="2997360"/>
            <a:ext cx="6480360" cy="360360"/>
            <a:chOff x="1116000" y="2997360"/>
            <a:chExt cx="6480360" cy="360360"/>
          </a:xfrm>
        </p:grpSpPr>
        <p:sp>
          <p:nvSpPr>
            <p:cNvPr id="68" name="Line 5"/>
            <p:cNvSpPr/>
            <p:nvPr/>
          </p:nvSpPr>
          <p:spPr>
            <a:xfrm>
              <a:off x="1116000" y="321300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7"/>
            <p:cNvSpPr/>
            <p:nvPr/>
          </p:nvSpPr>
          <p:spPr>
            <a:xfrm>
              <a:off x="111600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759636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1"/>
            <p:cNvSpPr/>
            <p:nvPr/>
          </p:nvSpPr>
          <p:spPr>
            <a:xfrm>
              <a:off x="270036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2"/>
            <p:cNvSpPr/>
            <p:nvPr/>
          </p:nvSpPr>
          <p:spPr>
            <a:xfrm>
              <a:off x="457200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3"/>
            <p:cNvSpPr/>
            <p:nvPr/>
          </p:nvSpPr>
          <p:spPr>
            <a:xfrm>
              <a:off x="622764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1116000" y="5373720"/>
            <a:ext cx="6480360" cy="360360"/>
            <a:chOff x="1116000" y="5373720"/>
            <a:chExt cx="6480360" cy="360360"/>
          </a:xfrm>
        </p:grpSpPr>
        <p:sp>
          <p:nvSpPr>
            <p:cNvPr id="75" name="Line 6"/>
            <p:cNvSpPr/>
            <p:nvPr/>
          </p:nvSpPr>
          <p:spPr>
            <a:xfrm>
              <a:off x="1116000" y="558972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111600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>
              <a:off x="759636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270036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0072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>
              <a:off x="622764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17"/>
          <p:cNvSpPr/>
          <p:nvPr/>
        </p:nvSpPr>
        <p:spPr>
          <a:xfrm>
            <a:off x="395280" y="2133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7020000" y="220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539640" y="4791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7162920" y="47912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now your learn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468360" y="1989000"/>
            <a:ext cx="7704000" cy="1191240"/>
            <a:chOff x="468360" y="1989000"/>
            <a:chExt cx="7704000" cy="1191240"/>
          </a:xfrm>
        </p:grpSpPr>
        <p:sp>
          <p:nvSpPr>
            <p:cNvPr id="87" name="Text Box 5"/>
            <p:cNvSpPr/>
            <p:nvPr/>
          </p:nvSpPr>
          <p:spPr>
            <a:xfrm>
              <a:off x="1692360" y="227664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V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su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6" descr="eye1"/>
            <p:cNvPicPr/>
            <p:nvPr/>
          </p:nvPicPr>
          <p:blipFill>
            <a:blip r:embed="rId1"/>
            <a:stretch/>
          </p:blipFill>
          <p:spPr>
            <a:xfrm>
              <a:off x="468360" y="2133720"/>
              <a:ext cx="1190520" cy="9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7"/>
            <p:cNvSpPr/>
            <p:nvPr/>
          </p:nvSpPr>
          <p:spPr>
            <a:xfrm>
              <a:off x="3203640" y="1989000"/>
              <a:ext cx="496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seeing and observing things. You like demonstrations, displays, handouts &amp; most visual materials. You use pictures and diagram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8"/>
          <p:cNvGrpSpPr/>
          <p:nvPr/>
        </p:nvGrpSpPr>
        <p:grpSpPr>
          <a:xfrm>
            <a:off x="684360" y="3213000"/>
            <a:ext cx="7488000" cy="1305000"/>
            <a:chOff x="684360" y="3213000"/>
            <a:chExt cx="7488000" cy="1305000"/>
          </a:xfrm>
        </p:grpSpPr>
        <p:sp>
          <p:nvSpPr>
            <p:cNvPr id="91" name="Text Box 9"/>
            <p:cNvSpPr/>
            <p:nvPr/>
          </p:nvSpPr>
          <p:spPr>
            <a:xfrm>
              <a:off x="1763640" y="357336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di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10" descr="ear1"/>
            <p:cNvPicPr/>
            <p:nvPr/>
          </p:nvPicPr>
          <p:blipFill>
            <a:blip r:embed="rId2"/>
            <a:stretch/>
          </p:blipFill>
          <p:spPr>
            <a:xfrm>
              <a:off x="684360" y="3213000"/>
              <a:ext cx="9237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1"/>
            <p:cNvSpPr/>
            <p:nvPr/>
          </p:nvSpPr>
          <p:spPr>
            <a:xfrm>
              <a:off x="3203640" y="357336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listening.  You may talk to yourself when revising, put things on a tape 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684360" y="4797360"/>
            <a:ext cx="7619400" cy="1564560"/>
            <a:chOff x="684360" y="4797360"/>
            <a:chExt cx="7619400" cy="1564560"/>
          </a:xfrm>
        </p:grpSpPr>
        <p:sp>
          <p:nvSpPr>
            <p:cNvPr id="95" name="Text Box 17"/>
            <p:cNvSpPr/>
            <p:nvPr/>
          </p:nvSpPr>
          <p:spPr>
            <a:xfrm>
              <a:off x="1750680" y="501336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naesthet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18" descr="touch"/>
            <p:cNvPicPr/>
            <p:nvPr/>
          </p:nvPicPr>
          <p:blipFill>
            <a:blip r:embed="rId3"/>
            <a:stretch/>
          </p:blipFill>
          <p:spPr>
            <a:xfrm>
              <a:off x="684360" y="4797360"/>
              <a:ext cx="9234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9"/>
            <p:cNvSpPr/>
            <p:nvPr/>
          </p:nvSpPr>
          <p:spPr>
            <a:xfrm>
              <a:off x="3335040" y="544500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physical experience, touching, feeling, holding, doing practicals – hands on experienc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visual learn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e frequently in discussions/deb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peeches and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speech recognition software for your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gon Naturally Speaking or Via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a dicta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 musical jingles and mnemonics to aid mem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udesign.com/mnem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in a quiet area as you ar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tracted by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ear1"/>
          <p:cNvPicPr/>
          <p:nvPr/>
        </p:nvPicPr>
        <p:blipFill>
          <a:blip r:embed="rId2"/>
          <a:stretch/>
        </p:blipFill>
        <p:spPr>
          <a:xfrm>
            <a:off x="7236000" y="4797360"/>
            <a:ext cx="1441440" cy="1727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600" spc="-1" strike="noStrike">
                <a:solidFill>
                  <a:srgbClr val="3333cc"/>
                </a:solidFill>
                <a:latin typeface="Arial"/>
              </a:rPr>
              <a:t>auditor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5:35Z</dcterms:modified>
  <cp:revision>23</cp:revision>
  <dc:subject/>
  <dc:title>Getting started in HE</dc:title>
</cp:coreProperties>
</file>