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7503-3A8E-4FF6-A59A-B3985FE99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615F-77D7-4A82-929A-4DBB82236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if since because since while when as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was found that the material tested had the precise properties needed for the exper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material tested had the correct heat resistant properties and the strength needed, it was not stable at very low temper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F4E2-7736-4498-A59E-148FC97DA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90A5-10B3-40E2-B558-F9E9D30E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0A25-8AE5-4612-8642-BF5EA5497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F785-72F2-4173-B820-274110562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CFD8-5311-4864-98B9-543EC146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9380-DE24-4D86-B358-8D000460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5E1C-96BF-48B0-B0F6-80603D19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ED2C-9D47-4C3B-A851-58249E96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D792-85ED-49C2-B7C2-F4D5EF16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17D0-6616-4E23-A435-1C522E0C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5EE4-AEA8-411F-92EE-3898A418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0506-49EB-4020-ABD5-0814CC96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E2D3-1E90-4B25-B9E6-F476A2346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isuwords.com/?word=clause" TargetMode="External"/><Relationship Id="rId2" Type="http://schemas.openxmlformats.org/officeDocument/2006/relationships/hyperlink" Target="http://www.visuwords.com/?word=claus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2987640" y="4437000"/>
            <a:ext cx="2808360" cy="1600200"/>
            <a:chOff x="298764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298764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77964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00472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is experiment abou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will it show m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 anyone else done this experim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method did I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re there any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id I find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the results tell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930240" y="1341360"/>
            <a:ext cx="7096320" cy="457200"/>
            <a:chOff x="930240" y="1341360"/>
            <a:chExt cx="7096320" cy="457200"/>
          </a:xfrm>
        </p:grpSpPr>
        <p:sp>
          <p:nvSpPr>
            <p:cNvPr id="147" name="Rectangle 5"/>
            <p:cNvSpPr/>
            <p:nvPr/>
          </p:nvSpPr>
          <p:spPr>
            <a:xfrm>
              <a:off x="930240" y="1341360"/>
              <a:ext cx="7096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"/>
            <p:cNvSpPr/>
            <p:nvPr/>
          </p:nvSpPr>
          <p:spPr>
            <a:xfrm>
              <a:off x="1042920" y="1359720"/>
              <a:ext cx="684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THINK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LAN         WRITE          REVISE             ED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AutoShape 11"/>
          <p:cNvSpPr/>
          <p:nvPr/>
        </p:nvSpPr>
        <p:spPr>
          <a:xfrm>
            <a:off x="5292720" y="3716280"/>
            <a:ext cx="3673440" cy="2737080"/>
          </a:xfrm>
          <a:custGeom>
            <a:avLst/>
            <a:gdLst>
              <a:gd name="textAreaLeft" fmla="*/ 1135080 w 3673440"/>
              <a:gd name="textAreaRight" fmla="*/ 2538360 w 3673440"/>
              <a:gd name="textAreaTop" fmla="*/ 1045440 h 2737080"/>
              <a:gd name="textAreaBottom" fmla="*/ 2090880 h 2737080"/>
            </a:gdLst>
            <a:ahLst/>
            <a:rect l="textAreaLeft" t="textAreaTop" r="textAreaRight" b="textAreaBottom"/>
            <a:pathLst>
              <a:path w="3673475" h="2736850">
                <a:moveTo>
                  <a:pt x="4" y="1045381"/>
                </a:moveTo>
                <a:lnTo>
                  <a:pt x="1403150" y="1045388"/>
                </a:lnTo>
                <a:lnTo>
                  <a:pt x="1836738" y="0"/>
                </a:lnTo>
                <a:lnTo>
                  <a:pt x="2270325" y="1045388"/>
                </a:lnTo>
                <a:lnTo>
                  <a:pt x="3673471" y="1045381"/>
                </a:lnTo>
                <a:lnTo>
                  <a:pt x="2538297" y="1691458"/>
                </a:lnTo>
                <a:lnTo>
                  <a:pt x="2971905" y="2736841"/>
                </a:lnTo>
                <a:lnTo>
                  <a:pt x="1836738" y="2090753"/>
                </a:lnTo>
                <a:lnTo>
                  <a:pt x="701570" y="2736841"/>
                </a:lnTo>
                <a:lnTo>
                  <a:pt x="1135178" y="1691458"/>
                </a:lnTo>
                <a:close/>
              </a:path>
            </a:pathLst>
          </a:custGeom>
          <a:solidFill>
            <a:srgbClr val="ffcc99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516720" y="4869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ck notes from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h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down the headings for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line a few sentenc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section in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outlines help you get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ual learners could use a mindmap  (Inspi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your results from your lab noteboo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273320" y="1341360"/>
            <a:ext cx="6769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255320" y="13291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in the most comfortabl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the abstract/summary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easier to start with your method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 | Background &amp; Context | Technical Detail | Results | Discussion &amp;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255320" y="12229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it read well – is it coh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your facts correct? data, refer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for spelling and grammar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an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080000" y="122292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REVI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… </a:t>
            </a: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in a sample of your wri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at it wa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how you think you could impro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ere you feel your writing weaknesses are and how you plan on improving your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writing from before th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Use a lab notebook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with a PEN not a pe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e and title your lab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simply and clearly so that someone else could repeat your experiment from your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data table beforehand and complete during the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a line through mistakes and make clear corrections, explain what changed and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drawings where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your results carefully, make conclusions, offer suggestions and evaluate any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j0237627[1]"/>
          <p:cNvPicPr/>
          <p:nvPr/>
        </p:nvPicPr>
        <p:blipFill>
          <a:blip r:embed="rId1"/>
          <a:stretch/>
        </p:blipFill>
        <p:spPr>
          <a:xfrm>
            <a:off x="1258920" y="476280"/>
            <a:ext cx="68580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ood technical writing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(evalu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4716360" y="2349360"/>
            <a:ext cx="4032360" cy="331164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580000" y="3789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6"/>
          <p:cNvSpPr/>
          <p:nvPr/>
        </p:nvSpPr>
        <p:spPr>
          <a:xfrm>
            <a:off x="6084720" y="3546360"/>
            <a:ext cx="3059280" cy="3311640"/>
          </a:xfrm>
          <a:prstGeom prst="irregularSeal2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objectiv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on’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rite in a newspaper sensational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azing, fantastic, huge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 state wha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he passiv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ntrates on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what was d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ot on WHO di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732720" y="4941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structure: Join ideas in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21"/>
          <p:cNvGrpSpPr/>
          <p:nvPr/>
        </p:nvGrpSpPr>
        <p:grpSpPr>
          <a:xfrm>
            <a:off x="468360" y="2317680"/>
            <a:ext cx="7632720" cy="1546200"/>
            <a:chOff x="468360" y="2317680"/>
            <a:chExt cx="7632720" cy="1546200"/>
          </a:xfrm>
        </p:grpSpPr>
        <p:grpSp>
          <p:nvGrpSpPr>
            <p:cNvPr id="65" name="Group 313"/>
            <p:cNvGrpSpPr/>
            <p:nvPr/>
          </p:nvGrpSpPr>
          <p:grpSpPr>
            <a:xfrm>
              <a:off x="468360" y="2965320"/>
              <a:ext cx="7632720" cy="898560"/>
              <a:chOff x="468360" y="2965320"/>
              <a:chExt cx="7632720" cy="898560"/>
            </a:xfrm>
          </p:grpSpPr>
          <p:grpSp>
            <p:nvGrpSpPr>
              <p:cNvPr id="66" name="Group 311"/>
              <p:cNvGrpSpPr/>
              <p:nvPr/>
            </p:nvGrpSpPr>
            <p:grpSpPr>
              <a:xfrm>
                <a:off x="468360" y="3038400"/>
                <a:ext cx="2952360" cy="825480"/>
                <a:chOff x="468360" y="3038400"/>
                <a:chExt cx="2952360" cy="825480"/>
              </a:xfrm>
            </p:grpSpPr>
            <p:sp>
              <p:nvSpPr>
                <p:cNvPr id="67" name="Rectangle 295"/>
                <p:cNvSpPr/>
                <p:nvPr/>
              </p:nvSpPr>
              <p:spPr>
                <a:xfrm>
                  <a:off x="468360" y="3038400"/>
                  <a:ext cx="647640" cy="576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297"/>
                <p:cNvSpPr/>
                <p:nvPr/>
              </p:nvSpPr>
              <p:spPr>
                <a:xfrm>
                  <a:off x="1476360" y="3038400"/>
                  <a:ext cx="19443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and, but  or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312"/>
              <p:cNvGrpSpPr/>
              <p:nvPr/>
            </p:nvGrpSpPr>
            <p:grpSpPr>
              <a:xfrm>
                <a:off x="4861080" y="2965320"/>
                <a:ext cx="3240000" cy="801720"/>
                <a:chOff x="4861080" y="2965320"/>
                <a:chExt cx="3240000" cy="801720"/>
              </a:xfrm>
            </p:grpSpPr>
            <p:sp>
              <p:nvSpPr>
                <p:cNvPr id="70" name="Line 299"/>
                <p:cNvSpPr/>
                <p:nvPr/>
              </p:nvSpPr>
              <p:spPr>
                <a:xfrm>
                  <a:off x="486108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300"/>
                <p:cNvSpPr/>
                <p:nvPr/>
              </p:nvSpPr>
              <p:spPr>
                <a:xfrm>
                  <a:off x="673272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Text Box 301"/>
                <p:cNvSpPr/>
                <p:nvPr/>
              </p:nvSpPr>
              <p:spPr>
                <a:xfrm>
                  <a:off x="4861080" y="3398760"/>
                  <a:ext cx="3240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3300"/>
                      </a:solidFill>
                      <a:latin typeface="Arial"/>
                    </a:rPr>
                    <a:t>Coordinates two ide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302"/>
                <p:cNvSpPr/>
                <p:nvPr/>
              </p:nvSpPr>
              <p:spPr>
                <a:xfrm>
                  <a:off x="6229440" y="2965320"/>
                  <a:ext cx="432000" cy="360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" name="Text Box 317"/>
            <p:cNvSpPr/>
            <p:nvPr/>
          </p:nvSpPr>
          <p:spPr>
            <a:xfrm>
              <a:off x="5003640" y="23176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18"/>
            <p:cNvSpPr/>
            <p:nvPr/>
          </p:nvSpPr>
          <p:spPr>
            <a:xfrm>
              <a:off x="6804000" y="231768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323"/>
          <p:cNvGrpSpPr/>
          <p:nvPr/>
        </p:nvGrpSpPr>
        <p:grpSpPr>
          <a:xfrm>
            <a:off x="395280" y="4156200"/>
            <a:ext cx="8137440" cy="2153520"/>
            <a:chOff x="395280" y="4156200"/>
            <a:chExt cx="8137440" cy="2153520"/>
          </a:xfrm>
        </p:grpSpPr>
        <p:sp>
          <p:nvSpPr>
            <p:cNvPr id="77" name="AutoShape 296"/>
            <p:cNvSpPr/>
            <p:nvPr/>
          </p:nvSpPr>
          <p:spPr>
            <a:xfrm>
              <a:off x="395280" y="4724280"/>
              <a:ext cx="557280" cy="7923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22"/>
            <p:cNvGrpSpPr/>
            <p:nvPr/>
          </p:nvGrpSpPr>
          <p:grpSpPr>
            <a:xfrm>
              <a:off x="1690560" y="4156200"/>
              <a:ext cx="6842160" cy="2153520"/>
              <a:chOff x="1690560" y="4156200"/>
              <a:chExt cx="6842160" cy="2153520"/>
            </a:xfrm>
          </p:grpSpPr>
          <p:grpSp>
            <p:nvGrpSpPr>
              <p:cNvPr id="79" name="Group 316"/>
              <p:cNvGrpSpPr/>
              <p:nvPr/>
            </p:nvGrpSpPr>
            <p:grpSpPr>
              <a:xfrm>
                <a:off x="1690560" y="4156200"/>
                <a:ext cx="6842160" cy="2138400"/>
                <a:chOff x="1690560" y="4156200"/>
                <a:chExt cx="6842160" cy="2138400"/>
              </a:xfrm>
            </p:grpSpPr>
            <p:sp>
              <p:nvSpPr>
                <p:cNvPr id="80" name="Text Box 298"/>
                <p:cNvSpPr/>
                <p:nvPr/>
              </p:nvSpPr>
              <p:spPr>
                <a:xfrm>
                  <a:off x="1690560" y="4371840"/>
                  <a:ext cx="2665440" cy="192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because , if , since, although, unless, when 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whereas, whil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" name="Group 310"/>
                <p:cNvGrpSpPr/>
                <p:nvPr/>
              </p:nvGrpSpPr>
              <p:grpSpPr>
                <a:xfrm>
                  <a:off x="4788000" y="4156200"/>
                  <a:ext cx="3744720" cy="1089000"/>
                  <a:chOff x="4788000" y="4156200"/>
                  <a:chExt cx="3744720" cy="1089000"/>
                </a:xfrm>
              </p:grpSpPr>
              <p:sp>
                <p:nvSpPr>
                  <p:cNvPr id="82" name="Line 303"/>
                  <p:cNvSpPr/>
                  <p:nvPr/>
                </p:nvSpPr>
                <p:spPr>
                  <a:xfrm>
                    <a:off x="4932000" y="4516560"/>
                    <a:ext cx="1295280" cy="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AutoShape 304"/>
                  <p:cNvSpPr/>
                  <p:nvPr/>
                </p:nvSpPr>
                <p:spPr>
                  <a:xfrm>
                    <a:off x="6227640" y="4156200"/>
                    <a:ext cx="360000" cy="504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cffff"/>
                  </a:solidFill>
                  <a:ln w="93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305"/>
                  <p:cNvSpPr/>
                  <p:nvPr/>
                </p:nvSpPr>
                <p:spPr>
                  <a:xfrm>
                    <a:off x="6803640" y="4660920"/>
                    <a:ext cx="129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Text Box 306"/>
                  <p:cNvSpPr/>
                  <p:nvPr/>
                </p:nvSpPr>
                <p:spPr>
                  <a:xfrm>
                    <a:off x="4788000" y="4876920"/>
                    <a:ext cx="3744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ff3300"/>
                        </a:solidFill>
                        <a:latin typeface="Arial"/>
                      </a:rPr>
                      <a:t>Main idea with subordinate ide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" name="Text Box 319"/>
              <p:cNvSpPr/>
              <p:nvPr/>
            </p:nvSpPr>
            <p:spPr>
              <a:xfrm>
                <a:off x="7093080" y="5667120"/>
                <a:ext cx="14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Subordinate cla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Line 320"/>
          <p:cNvSpPr/>
          <p:nvPr/>
        </p:nvSpPr>
        <p:spPr>
          <a:xfrm flipV="1">
            <a:off x="7885080" y="4365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395280" y="1052640"/>
            <a:ext cx="4248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you understand th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O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SUB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997440" y="364500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ond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idi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067280" y="2565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s at an equ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611280" y="5445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Visual thesaurus:  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suwords.com/?word=clause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Sentence structure problem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g sentences with lots of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finished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539640" y="2421000"/>
            <a:ext cx="6912000" cy="360360"/>
            <a:chOff x="539640" y="2421000"/>
            <a:chExt cx="6912000" cy="360360"/>
          </a:xfrm>
        </p:grpSpPr>
        <p:grpSp>
          <p:nvGrpSpPr>
            <p:cNvPr id="95" name="Group 7"/>
            <p:cNvGrpSpPr/>
            <p:nvPr/>
          </p:nvGrpSpPr>
          <p:grpSpPr>
            <a:xfrm>
              <a:off x="539640" y="2421000"/>
              <a:ext cx="3166920" cy="360360"/>
              <a:chOff x="539640" y="2421000"/>
              <a:chExt cx="3166920" cy="360360"/>
            </a:xfrm>
          </p:grpSpPr>
          <p:sp>
            <p:nvSpPr>
              <p:cNvPr id="96" name="Line 4"/>
              <p:cNvSpPr/>
              <p:nvPr/>
            </p:nvSpPr>
            <p:spPr>
              <a:xfrm>
                <a:off x="53964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"/>
              <p:cNvSpPr/>
              <p:nvPr/>
            </p:nvSpPr>
            <p:spPr>
              <a:xfrm>
                <a:off x="241128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6"/>
              <p:cNvSpPr/>
              <p:nvPr/>
            </p:nvSpPr>
            <p:spPr>
              <a:xfrm>
                <a:off x="190800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8"/>
            <p:cNvGrpSpPr/>
            <p:nvPr/>
          </p:nvGrpSpPr>
          <p:grpSpPr>
            <a:xfrm>
              <a:off x="4284720" y="2421000"/>
              <a:ext cx="3166920" cy="360360"/>
              <a:chOff x="4284720" y="2421000"/>
              <a:chExt cx="3166920" cy="360360"/>
            </a:xfrm>
          </p:grpSpPr>
          <p:sp>
            <p:nvSpPr>
              <p:cNvPr id="100" name="Line 9"/>
              <p:cNvSpPr/>
              <p:nvPr/>
            </p:nvSpPr>
            <p:spPr>
              <a:xfrm>
                <a:off x="428472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0"/>
              <p:cNvSpPr/>
              <p:nvPr/>
            </p:nvSpPr>
            <p:spPr>
              <a:xfrm>
                <a:off x="615636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1"/>
              <p:cNvSpPr/>
              <p:nvPr/>
            </p:nvSpPr>
            <p:spPr>
              <a:xfrm>
                <a:off x="565308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12"/>
            <p:cNvSpPr/>
            <p:nvPr/>
          </p:nvSpPr>
          <p:spPr>
            <a:xfrm>
              <a:off x="3780000" y="242100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5"/>
          <p:cNvGrpSpPr/>
          <p:nvPr/>
        </p:nvGrpSpPr>
        <p:grpSpPr>
          <a:xfrm>
            <a:off x="539640" y="2852640"/>
            <a:ext cx="6912000" cy="360360"/>
            <a:chOff x="539640" y="2852640"/>
            <a:chExt cx="6912000" cy="360360"/>
          </a:xfrm>
        </p:grpSpPr>
        <p:grpSp>
          <p:nvGrpSpPr>
            <p:cNvPr id="105" name="Group 16"/>
            <p:cNvGrpSpPr/>
            <p:nvPr/>
          </p:nvGrpSpPr>
          <p:grpSpPr>
            <a:xfrm>
              <a:off x="539640" y="2852640"/>
              <a:ext cx="3166920" cy="360360"/>
              <a:chOff x="539640" y="2852640"/>
              <a:chExt cx="3166920" cy="360360"/>
            </a:xfrm>
          </p:grpSpPr>
          <p:sp>
            <p:nvSpPr>
              <p:cNvPr id="106" name="Line 17"/>
              <p:cNvSpPr/>
              <p:nvPr/>
            </p:nvSpPr>
            <p:spPr>
              <a:xfrm>
                <a:off x="53964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8"/>
              <p:cNvSpPr/>
              <p:nvPr/>
            </p:nvSpPr>
            <p:spPr>
              <a:xfrm>
                <a:off x="241128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9"/>
              <p:cNvSpPr/>
              <p:nvPr/>
            </p:nvSpPr>
            <p:spPr>
              <a:xfrm>
                <a:off x="190800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20"/>
            <p:cNvGrpSpPr/>
            <p:nvPr/>
          </p:nvGrpSpPr>
          <p:grpSpPr>
            <a:xfrm>
              <a:off x="4284720" y="2852640"/>
              <a:ext cx="3166920" cy="360360"/>
              <a:chOff x="4284720" y="2852640"/>
              <a:chExt cx="3166920" cy="360360"/>
            </a:xfrm>
          </p:grpSpPr>
          <p:sp>
            <p:nvSpPr>
              <p:cNvPr id="110" name="Line 21"/>
              <p:cNvSpPr/>
              <p:nvPr/>
            </p:nvSpPr>
            <p:spPr>
              <a:xfrm>
                <a:off x="428472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2"/>
              <p:cNvSpPr/>
              <p:nvPr/>
            </p:nvSpPr>
            <p:spPr>
              <a:xfrm>
                <a:off x="615636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3"/>
              <p:cNvSpPr/>
              <p:nvPr/>
            </p:nvSpPr>
            <p:spPr>
              <a:xfrm>
                <a:off x="565308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Rectangle 24"/>
            <p:cNvSpPr/>
            <p:nvPr/>
          </p:nvSpPr>
          <p:spPr>
            <a:xfrm>
              <a:off x="3780000" y="2852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5"/>
          <p:cNvSpPr/>
          <p:nvPr/>
        </p:nvSpPr>
        <p:spPr>
          <a:xfrm>
            <a:off x="7524720" y="2421000"/>
            <a:ext cx="43200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4140360" y="5950080"/>
            <a:ext cx="1295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7"/>
          <p:cNvSpPr/>
          <p:nvPr/>
        </p:nvSpPr>
        <p:spPr>
          <a:xfrm>
            <a:off x="900000" y="4797360"/>
            <a:ext cx="360360" cy="5047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1"/>
          <p:cNvGrpSpPr/>
          <p:nvPr/>
        </p:nvGrpSpPr>
        <p:grpSpPr>
          <a:xfrm>
            <a:off x="1476360" y="5084640"/>
            <a:ext cx="3311640" cy="360360"/>
            <a:chOff x="1476360" y="5084640"/>
            <a:chExt cx="3311640" cy="360360"/>
          </a:xfrm>
        </p:grpSpPr>
        <p:sp>
          <p:nvSpPr>
            <p:cNvPr id="118" name="Line 28"/>
            <p:cNvSpPr/>
            <p:nvPr/>
          </p:nvSpPr>
          <p:spPr>
            <a:xfrm>
              <a:off x="1476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2843280" y="5084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>
              <a:off x="3492360" y="5300640"/>
              <a:ext cx="129564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2"/>
          <p:cNvGrpSpPr/>
          <p:nvPr/>
        </p:nvGrpSpPr>
        <p:grpSpPr>
          <a:xfrm>
            <a:off x="5508720" y="5084640"/>
            <a:ext cx="3310920" cy="360360"/>
            <a:chOff x="5508720" y="5084640"/>
            <a:chExt cx="3310920" cy="360360"/>
          </a:xfrm>
        </p:grpSpPr>
        <p:sp>
          <p:nvSpPr>
            <p:cNvPr id="122" name="Line 33"/>
            <p:cNvSpPr/>
            <p:nvPr/>
          </p:nvSpPr>
          <p:spPr>
            <a:xfrm>
              <a:off x="5508720" y="5300640"/>
              <a:ext cx="129492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4"/>
            <p:cNvSpPr/>
            <p:nvPr/>
          </p:nvSpPr>
          <p:spPr>
            <a:xfrm>
              <a:off x="6875280" y="5084640"/>
              <a:ext cx="43128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5"/>
            <p:cNvSpPr/>
            <p:nvPr/>
          </p:nvSpPr>
          <p:spPr>
            <a:xfrm>
              <a:off x="7524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36"/>
          <p:cNvSpPr/>
          <p:nvPr/>
        </p:nvSpPr>
        <p:spPr>
          <a:xfrm>
            <a:off x="4932360" y="5013360"/>
            <a:ext cx="43164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826920" y="57340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Main idea (clause)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6588000" y="6237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dout sec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9"/>
          <p:cNvSpPr/>
          <p:nvPr/>
        </p:nvSpPr>
        <p:spPr>
          <a:xfrm rot="5400000">
            <a:off x="7558560" y="2601000"/>
            <a:ext cx="5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4"/>
          <p:cNvSpPr/>
          <p:nvPr/>
        </p:nvSpPr>
        <p:spPr>
          <a:xfrm>
            <a:off x="971640" y="141300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is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7"/>
          <p:cNvGrpSpPr/>
          <p:nvPr/>
        </p:nvGrpSpPr>
        <p:grpSpPr>
          <a:xfrm>
            <a:off x="1116000" y="2205000"/>
            <a:ext cx="5472000" cy="863640"/>
            <a:chOff x="1116000" y="2205000"/>
            <a:chExt cx="5472000" cy="863640"/>
          </a:xfrm>
        </p:grpSpPr>
        <p:sp>
          <p:nvSpPr>
            <p:cNvPr id="131" name="AutoShape 20"/>
            <p:cNvSpPr/>
            <p:nvPr/>
          </p:nvSpPr>
          <p:spPr>
            <a:xfrm>
              <a:off x="1116000" y="2421000"/>
              <a:ext cx="431640" cy="64764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1"/>
            <p:cNvSpPr/>
            <p:nvPr/>
          </p:nvSpPr>
          <p:spPr>
            <a:xfrm>
              <a:off x="1619280" y="2781360"/>
              <a:ext cx="10796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2700360" y="2565360"/>
              <a:ext cx="647640" cy="431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3419640" y="2781360"/>
              <a:ext cx="107928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4"/>
            <p:cNvSpPr/>
            <p:nvPr/>
          </p:nvSpPr>
          <p:spPr>
            <a:xfrm>
              <a:off x="4427640" y="249228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>
              <a:off x="4645080" y="2565360"/>
              <a:ext cx="16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6"/>
            <p:cNvSpPr/>
            <p:nvPr/>
          </p:nvSpPr>
          <p:spPr>
            <a:xfrm>
              <a:off x="6372360" y="220500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28"/>
          <p:cNvSpPr/>
          <p:nvPr/>
        </p:nvSpPr>
        <p:spPr>
          <a:xfrm>
            <a:off x="826920" y="357336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lthoug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material had the correct heat resistant properties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strength needed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was not stable at temperatures below – 15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paragraph develops one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rox 6 sentenc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sentence each para tells reader what para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your work out loud (or a fri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your argument f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your ‘story’ cl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nd edit, edit again, ed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Know your grammatical sin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blems below make it difficult to understand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ulty parallelism 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difficult to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fragment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unfinished id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on sentence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long complex sente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un/verb agre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580000" y="5661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See handout – section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7:42Z</dcterms:modified>
  <cp:revision>106</cp:revision>
  <dc:subject/>
  <dc:title>Getting started in HE</dc:title>
</cp:coreProperties>
</file>