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73CC-2E34-4B68-B84B-06B1DB362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6A79-8745-4F26-A492-44B83F54C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tion number enclosed in square brackets, offset from the rest of the citation: [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(s): H. Inose, P. Fingle, and J.R. Pier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 (in italics)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ormation Technology and Civilizati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ion - if not the first: 2nd ed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of publication: New Yor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r: Freem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of publication: 198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(s): pp. 105-1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s: Laudon, KC &amp; Laudon, J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: 2003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- in italics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ssentials of management information systems: managing the digital firm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r: Prentice Ha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: Upper Saddle River, N.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2198-9935-4E3D-9628-95951A93E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1ACD-15B3-42D4-8F47-72370DA1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B21F-D36A-44DE-A7F4-F23278560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3700-37F7-4200-A3AF-F172FC2DE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CBD6-80E3-46CF-B8C1-FAA6F7CF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A5E4-8999-4E25-92D2-C0221ACA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2774-15DF-4794-ADB5-30A21312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3E27-4349-4507-9C81-B51277AE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B4E7-3981-4C66-93BB-4009C06B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FD43-B82F-4305-8DAE-9C1C0AA7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C0A3-43C5-49F2-9F35-03B96A15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B9DF-4859-4E22-944B-9F400783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2AFD-B448-4DD0-B553-77081DA2C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lib.murdoch.edu.au/find/citation/ieee.html" TargetMode="External"/><Relationship Id="rId2" Type="http://schemas.openxmlformats.org/officeDocument/2006/relationships/hyperlink" Target="http://libweb.anglia.ac.uk/referencing/harvard.ht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eattlecentral.org/library/101/textbook/glossary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Learner Ethics and Avoiding Plagi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book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uthor(s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. Maier, A. Barney, G.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itl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udy Skills for 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Har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earson Education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851280" y="5516640"/>
            <a:ext cx="48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Number your reference list  1, 2 , 3  e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Title of book is in ita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text 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he same data was recorded by [1] although later work showed significant differences [2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reference list: (journal artic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[1]  H. Inose, P. Fingle, and J.R. Pierce, 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Information Technology and Civilization,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2nd ed., New York:   Freeman, 1984, pp. 105-1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ss, G 2003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 Project Management Handbook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pen Publishers,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Doss,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   200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itle: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Project Managemen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Handbook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New Yor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Aspen Publis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text 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ustomer compatibility management emphasizes the controllability of customer to customer interaction in the higher education environmen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Rowley, 1996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referenc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wley J.E. 1996,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ucational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ongman,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t 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 ‘and all oth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ext citation with multiple 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(Laudon </a:t>
            </a: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– same as information above in a reference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 qu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"These resting times provide periods for reflection and permit time for new things to be learned, mastered and brought to fruition" (Jones, 1995, pp.122-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IE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lib.murdoch.edu.au/find/citation/ieee.htm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Harv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ibweb.anglia.ac.uk/referencing/harvard.ht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a referenc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ext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ence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qu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en should you use in-text ci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86048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quoted directly from someone else’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When you have paraphrased the work of another author, rather than quoted directly from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referred to previously published work of your 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If someone’s work or ideas are the source of a particular theory, argument or view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used specific information, e.g. statistics or case stud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ep notes of your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notes with FULL re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t in quotes any pieces of text you want to use directly + the pag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book author may refer to another person – note the name of the other person and say:  ‘ Jones cited in Fox (2001)’ with full reference of 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Use </a:t>
            </a: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Endnote</a:t>
            </a: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 bibliographic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On all public work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learner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plagia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how plagiarism can be avo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in-text citation (references) to avoid plagia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Comment on your own understanding of plagiarism and how you aim to avoi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to us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ither Harvard or IEE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 in any work where you have had to reference o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notes from section in a book with a full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w examples of using a referenc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k  - single and multiple 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e ITEMS FOR THE PORTFOLIO on 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84360" y="14130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DON’T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s/course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bricat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vent info for an essay/ invent lab d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giar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ke other people’s work as your ow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ny others access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aking library material unavail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earing pages out of boo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5219640" y="620640"/>
            <a:ext cx="3816360" cy="3095640"/>
          </a:xfrm>
          <a:prstGeom prst="irregularSeal1">
            <a:avLst/>
          </a:prstGeom>
          <a:solidFill>
            <a:srgbClr val="ffff00">
              <a:alpha val="45000"/>
            </a:srgbClr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515280" y="184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39640" y="6381720"/>
            <a:ext cx="72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dapted from: http://teachx.rutgers.edu/integrity/stude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plagiar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another author's ideas or words without proper documentation; representing someone else's creative work (ideas, words, images, etc.) as one's own,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whether intentional or 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eattlecentral.org/library/101/textbook/glossary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093080" y="587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full reference from any text you take not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leave things to the last-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d map the structure of your 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key authors on certain branches of your mind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ext reference to an au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As Price (2006) indicates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Referenc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references of your 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ce, G.A.(2006) Creative solutions to making technology work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T-J Research in Learning Technology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14(1), 21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ist of all the sources you have used to formulate you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may not be cited in you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in-text cit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used when you are discussing the work of another person in your written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include authors’ words directly into your text, this is a quotation, and must also be accompanied by an in-text c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quotations use “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quotations are indented from the main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particular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e of Electrical and Electronic Engin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v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scientists and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8:30Z</dcterms:modified>
  <cp:revision>77</cp:revision>
  <dc:subject/>
  <dc:title>Getting started in HE</dc:title>
</cp:coreProperties>
</file>